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C55EC-5CA7-48F7-AC86-FC23F0D83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DDA-BAA6-4AA9-9D62-8D83C9DAB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FC29-C19B-43C3-A35F-7BEDA6EEB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FAA-9627-444C-8D3D-47B192C5E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F71B-EF1F-412B-B3B8-B5EA269BC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7FDF-DF2C-47F2-9F71-2D9732EF4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93B-A755-4D63-9475-749AED05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E05D9-0828-44F2-B6A6-8B6FA496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6B13-299C-48B1-A3C1-E5A5939C5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5826-8A02-473F-A22D-D4ACE0CA2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0336-5592-42B5-9567-ABC0C095C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E0A9-CB23-4945-A7B3-DC229E6E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AABD9DC-4B70-4BDD-8EB3-798A03D996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Powerpoint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Ryan Car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IS IS HOW YOU DO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9T18:17:01Z</dcterms:created>
  <dc:creator>Information Technology</dc:creator>
  <dc:description/>
  <dc:language>en-US</dc:language>
  <cp:lastModifiedBy>Information Technology</cp:lastModifiedBy>
  <dcterms:modified xsi:type="dcterms:W3CDTF">2016-01-29T18:35:08Z</dcterms:modified>
  <cp:revision>2</cp:revision>
  <dc:subject/>
  <dc:title>Sample Powerpoint </dc:title>
</cp:coreProperties>
</file>