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8D5-B13D-422F-A09D-8AC9DE58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DBB-6DAA-4154-BE09-D73151CB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428-89E2-4DAC-8AC0-77C04B19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CA8-28A1-43EE-96DE-8C024B7D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077-F2B0-4E96-9695-BE4A83BB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F09-B5D1-484E-B08A-8772A20D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C7E-60EF-4912-AA4B-B953EE06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D66-60C9-49A0-9422-F626CE06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431-A1F6-42C1-BF08-5C34DF3B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E07-388E-49ED-9022-E901590F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31E-A01B-41B3-AE1E-DC445977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B743-1BCE-4D34-82AD-DA12B9A4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E9B87-5E94-444E-B352-C82E8E8AE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Powerpoi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yan Ca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HOW YOU DO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9T18:17:01Z</dcterms:created>
  <dc:creator>Information Technology</dc:creator>
  <dc:description/>
  <dc:language>en-US</dc:language>
  <cp:lastModifiedBy>Information Technology</cp:lastModifiedBy>
  <dcterms:modified xsi:type="dcterms:W3CDTF">2016-01-29T18:35:08Z</dcterms:modified>
  <cp:revision>2</cp:revision>
  <dc:subject/>
  <dc:title>Sample Powerpoint </dc:title>
</cp:coreProperties>
</file>